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592-1A24-4F31-833E-2D71AAEB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541-1506-4B4B-918B-D6C08130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DA3-ECF6-4849-99BA-82B21F27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452-CB00-4D10-B43F-95D2D146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23E-5C24-438A-A4B7-910BE8BC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DFB-3E12-46C4-9243-0AC29DBD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705-887B-4249-8288-69A88B8F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F91-E48B-421F-807D-9CF5491A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1A7-2351-4996-AE9A-96603CA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ABF-B430-4763-BA16-29EDBDE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E89-4FBE-4FDC-BDC0-4A93B92F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E1A-09D6-46EE-BDAF-3489B93A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DE802-64C3-4ADE-8AED-8864BA381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320" y="9140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iosit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wsing to Wonder About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60640" y="2757600"/>
            <a:ext cx="3243240" cy="45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26:37Z</dcterms:created>
  <dc:creator/>
  <dc:description/>
  <dc:language>en-US</dc:language>
  <cp:lastModifiedBy/>
  <dcterms:modified xsi:type="dcterms:W3CDTF">2010-05-12T02:49:51Z</dcterms:modified>
  <cp:revision>2</cp:revision>
  <dc:subject/>
  <dc:title/>
</cp:coreProperties>
</file>